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6202025" cy="32404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42EA52-4D19-4C36-870F-E2DD71C2F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571840" y="685800"/>
            <a:ext cx="171432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×18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0×9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×18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まで拡大し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名前を付けて保存」→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F0504F-9CFB-4BE3-BC73-2FD47D0673A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0000" y="1739880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28144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704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00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402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6704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0000" y="7582320"/>
            <a:ext cx="1458144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1458144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0000" y="1292760"/>
            <a:ext cx="14581440" cy="250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8144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  <Words>61</Words>
  <Paragraphs>6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5-07T07:53:41Z</dcterms:modified>
  <cp:revision>11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